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54B-EB74-48B6-ADC5-C1CEE442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A3D-73B1-4D74-83EF-7BCF0B86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2A5-F780-4C07-BFC0-E5B3CB1B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1B7-B5AA-47F3-9B59-A3A420FC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C35-F065-4322-A838-67DB5649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66E-E5A2-42B1-884A-1557E22D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7AE-F077-4D6E-955D-51EF1D45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3F9-546D-448B-B524-942B17AA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C27-0B6E-4748-9F0E-1D7952A4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A6A-131F-4B92-A9D6-B536BB76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2EB-FBA8-4418-9C6D-FA496B6A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0FF-D610-4D9C-8ED9-7BB87237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528A-EEEA-4F1F-8976-379ACA87A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3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 our thanks and p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o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our Redeem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whom and in wh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y the Spirit who dwells in u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worship you in joyful so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and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10:19Z</dcterms:created>
  <dc:creator>Anon Anon</dc:creator>
  <dc:description/>
  <dc:language>en-US</dc:language>
  <cp:lastModifiedBy>Anon Anon</cp:lastModifiedBy>
  <dcterms:modified xsi:type="dcterms:W3CDTF">2005-08-09T05:23:49Z</dcterms:modified>
  <cp:revision>11</cp:revision>
  <dc:subject/>
  <dc:title>PowerPoint Presentation</dc:title>
</cp:coreProperties>
</file>